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3511-FF00-45EB-A4FE-C99FBB8B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92AB-7310-4E36-B1F3-678768CF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E5F8-64E1-4E6C-86B2-029A43D8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3EF3-43C7-4CFB-A67C-FD7A92EF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DE83-E455-4B35-A8D6-6A2897E69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9B53-82DF-4536-9466-E7CE253E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5FA2-F6F1-484E-BA52-C425EA52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6DE1-8646-41CC-BA64-7C6837DD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F417-ABF1-4D62-AB21-825005B2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6EF4-0FA3-4319-9F50-D039DF33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F53A-40C7-439A-8526-11FD38A5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CFFE-4FE6-4D08-9F89-48841F8A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AF8E-A1CD-4B97-9880-0C112CEF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6F3F-EFF0-4183-B50A-C3E36959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74C9-5C6E-4CEA-AD35-025C8C37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51AA-E3C5-4499-B483-18D00EE92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8F28-7D96-4038-A989-56AEF4B07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37CC-6662-4214-BBD3-EB78985A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F52B-62CA-429B-8170-C7C3F8BD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BA10-F2E8-49C6-BE2D-58D4C607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955D-5058-4E91-B2E0-15024557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0C8B-DDEF-42F6-9D81-5CC9C803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E9A9-6FCB-41BC-8985-30B6508C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55ED-C3C6-408B-BE45-754F6468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7201-99AB-4E44-92D8-35B1DC629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98B1-3365-4172-9A51-E9D97251B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19320" y="914400"/>
            <a:ext cx="6629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Good writers always write with intent,        a purpose, a point and meaning.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    This is otherwise know as the </a:t>
            </a: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so what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09480" y="0"/>
            <a:ext cx="69343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8026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les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y Lillian Morrison</a:t>
            </a: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angest of gaps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ir goneness-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ther, father, loved friends</a:t>
            </a: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black holes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 the astronomer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not more mysterious</a:t>
            </a: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kind of hole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ll not be filled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th candle flames</a:t>
            </a:r>
            <a:br>
              <a:rPr sz="24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 even a thousand thoughts</a:t>
            </a: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hole is inside us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brims over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empty and full at once.</a:t>
            </a:r>
            <a:br>
              <a:rPr sz="1900"/>
            </a:br>
            <a:endParaRPr b="0" lang="en-US" sz="19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665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What do you think the poet wanted the reader to understand about the holes in our lives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5135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Good writing has to have a purpose, a point, or a meaning below the surface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665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The most important question we can ask ourselves is </a:t>
            </a:r>
            <a:r>
              <a:rPr b="1" i="1" lang="en-US" sz="36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so what</a:t>
            </a:r>
            <a:r>
              <a:rPr b="0" lang="en-US" sz="36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?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What is my point? 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What is my message to the reader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2880" y="457200"/>
            <a:ext cx="7513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When you are writing today, I want you to think about your point, or message.  Think about your </a:t>
            </a:r>
            <a:r>
              <a:rPr b="1" i="1" lang="en-US" sz="40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so what</a:t>
            </a:r>
            <a:r>
              <a:rPr b="0" lang="en-US" sz="40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90720" y="1295280"/>
            <a:ext cx="632448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1447920"/>
            <a:ext cx="7361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ccording to Nancy Atwell, “Good readers find something to think about because a good writer has found something to think abou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5135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The author is sending us a message, and trying to share a deeper meaning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437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We need to ask ourselves what is the writer trying to tell us? 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What is the poet’s  message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Lets practice looking for the </a:t>
            </a:r>
            <a:r>
              <a:rPr b="1" i="1" lang="en-US" sz="3200" spc="-1" strike="noStrike">
                <a:solidFill>
                  <a:srgbClr val="000000"/>
                </a:solidFill>
                <a:latin typeface="Palatino"/>
              </a:rPr>
              <a:t>so what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in poems by published po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2880" y="457200"/>
            <a:ext cx="75898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ea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y Langston Hughes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ld fast to drea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is dreams di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fe is a broken-winged bi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t cannot fly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ld fast to drea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when dreams g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fe is a barren fiel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zen with snow.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43000" y="7621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208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What do you think the poet wanted the reader to understand about dreams?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90720" y="304920"/>
            <a:ext cx="6705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6658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epsak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y Eloise Greenfield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fore Mrs.Williams di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e told Mr. Willia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he gets ho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get a nickel out of h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vy blue pocketboo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give it to h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weet little gingerbread gir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t’s m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ain’t never going to spend i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1219320"/>
            <a:ext cx="6019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58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What do you think the poet wanted the reader to understand about the importance of the nickel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20:19:10Z</dcterms:created>
  <dc:creator>AAPS</dc:creator>
  <dc:description/>
  <dc:language>en-US</dc:language>
  <cp:lastModifiedBy>Chuck Hatt</cp:lastModifiedBy>
  <dcterms:modified xsi:type="dcterms:W3CDTF">2006-03-27T20:09:50Z</dcterms:modified>
  <cp:revision>23</cp:revision>
  <dc:subject/>
  <dc:title>PowerPoint Presentation</dc:title>
</cp:coreProperties>
</file>